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B59-DEFE-4D3F-94BF-15A57419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385-E49B-498E-8051-0616FE4B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28E-F4AD-46E1-9805-672D1CA3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0B7-8350-49FE-A711-07551AD8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C741-E373-4214-8ACB-DFAD08E7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3A6-E2F4-43D1-BA83-E026F2A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72DF-AC75-4102-BD65-04FD7968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8A23-484D-4252-9E45-606D98D4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9054-EEC7-431B-96F6-775D586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B765-62C5-4FAA-BF6E-06C1068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EBC0-1745-4B65-B19E-6EE87ACD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449-31F6-44BA-956C-ABACB63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4283-2C7A-4EB4-83E1-411D054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5EC-0FF8-4CB0-B348-70674EB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18E-98D6-43B0-8A31-474CC96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5827-48F8-447F-B852-704D63B1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D762-A4FB-4764-9920-3189039A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02E-4611-4568-9D81-9E8154EB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00F-9B5A-4FF5-AF7D-92B4339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D44-40B0-44B7-836F-E679CC7F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34A-DFF6-4BE2-94C2-C123D14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D75-C936-446F-9779-243C8FB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F5E-6283-475A-9EA0-7B82033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271-B17E-44C6-96BF-8FFD28C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E8B-BFA1-4171-A9FF-9113BA1C4F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59680" y="2992320"/>
              <a:ext cx="20268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59680" y="3276720"/>
              <a:ext cx="20268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6960" y="3276720"/>
              <a:ext cx="20268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59680" y="3560760"/>
              <a:ext cx="20268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6960" y="3560760"/>
              <a:ext cx="20268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59680" y="3843360"/>
              <a:ext cx="20268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6960" y="3843360"/>
              <a:ext cx="20268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59680" y="4127400"/>
              <a:ext cx="20268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6960" y="4127400"/>
              <a:ext cx="20268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59680" y="4411800"/>
              <a:ext cx="20268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6960" y="4411800"/>
              <a:ext cx="20268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59680" y="4695840"/>
              <a:ext cx="20268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6960" y="4695840"/>
              <a:ext cx="20268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6960" y="4979880"/>
              <a:ext cx="20268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C50A-0132-4BCC-B73D-C0838C5DBF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7215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2000" y="3049560"/>
            <a:ext cx="70563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мпионат России (мужчины и женщины), первенство России (юниоры и юниорки до 20 лет), (юноши и девушки до 18 ле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5.09.2017 г.                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7400" y="173160"/>
            <a:ext cx="75438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Чемпионат России (мужчины и женщины), первенство России (юниоры и юниорки до 20 лет), (юноши и девушки до 18 лет) 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2-5.09.2017 г.                                      г. Адлер с/к «Юность»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31880" y="2187720"/>
          <a:ext cx="8064360" cy="3678120"/>
        </p:xfrm>
        <a:graphic>
          <a:graphicData uri="http://schemas.openxmlformats.org/drawingml/2006/table">
            <a:tbl>
              <a:tblPr/>
              <a:tblGrid>
                <a:gridCol w="2898720"/>
                <a:gridCol w="2284560"/>
                <a:gridCol w="817560"/>
                <a:gridCol w="2063520"/>
              </a:tblGrid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Ор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М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ногоборь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шенич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С. Ор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Оля</cp:lastModifiedBy>
  <cp:lastPrinted>2017-09-02T09:45:24Z</cp:lastPrinted>
  <dcterms:modified xsi:type="dcterms:W3CDTF">2017-09-02T09:48:59Z</dcterms:modified>
  <cp:revision>42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