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E63-6B74-49C5-9523-FC252072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550-5A3D-40D2-9BE4-F77DA329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55E-FFEE-4095-9EDF-803FB501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6F9-1B7C-44AC-B6B3-98ADFAE2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AFD7-A9CC-440D-BCEE-49071C48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6FB9-4E1E-411E-8AB2-8117379A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1FB6-8541-4EE1-AE99-6D534F64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E2C9-1E4B-4C7E-9A7A-4FDAC1AD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E284-46DC-411C-8563-7908EA4D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1043-1F47-4F1F-B013-E1CD6B35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54EA-C64F-46E5-A9CE-CAAF19D9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DE1-F71A-4F4C-AFBE-E721B26B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D53F-251C-49CC-823F-374AC556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7E8D-FAB4-4084-8B8B-F726F1EE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F816-D9E5-4AC1-A568-BF2F5930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A88F-EE88-43A6-AB42-9ED8EB4B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A43D-723D-4740-9058-06DD6732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CCC-4BCE-4315-AC84-9B37F231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F38-BFA8-48CB-ACD9-5B244247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048-ACC5-444F-8679-47D04B65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3DC-8303-47D7-A404-526FA4D3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931-5D2D-4657-8484-5D09C8FA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AA4-DDB1-454C-BB49-A7EDEAB9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A62-BF92-4E5E-8B19-FC8CAC1C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669B-A3AB-430D-A347-4F88BA5BC2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5424-830F-44CB-BCBE-86CA3555B6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428760"/>
            <a:ext cx="78930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ФИЗИЧЕСКОЙ КУЛЬТУР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СПОРТА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ФЕДЕРАЦИЯ ЛЕГКОЙ АТЛЕТИКИ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2857680"/>
            <a:ext cx="7057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바탕"/>
              </a:rPr>
              <a:t>Чемпионат и первенство ЮФО, С-КФО среди молодежи (92-94 гг.р.), юниоров (95-96 гг.р.), юношей и девушек (97-98 гг.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5-06.06.2014 г.               г. Краснодар ст. Сормовская 1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. «Кубань»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Чемпионат и первенство ЮФО, С-КФО среди молодежи (92-94 гг.р.), юниоров (95-96 гг.р.), юношей и девушек (97-98 гг.р.) 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2421000"/>
          <a:ext cx="7499160" cy="3352680"/>
        </p:xfrm>
        <a:graphic>
          <a:graphicData uri="http://schemas.openxmlformats.org/drawingml/2006/table">
            <a:tbl>
              <a:tblPr/>
              <a:tblGrid>
                <a:gridCol w="4329000"/>
                <a:gridCol w="1730520"/>
                <a:gridCol w="143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делег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М. Ники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. Мис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В. Пет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Ф. П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 Ю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Азизь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А. Воло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Ро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6-09T08:24:39Z</cp:lastPrinted>
  <dcterms:modified xsi:type="dcterms:W3CDTF">2014-06-09T08:27:59Z</dcterms:modified>
  <cp:revision>24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