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F85-01E5-4E5B-B141-CE48F477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B39-EFA3-4789-8138-622282B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329-ABED-43B2-BDEE-B285AAF5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5CD-FA9C-4D9C-A5BE-5F9FCB95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A58-ADD7-4AE7-8653-A103FEBD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D768-F1FA-4A0A-96D7-BFF6293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E250-61F6-4819-BE4B-0B6AB403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F63-5939-4AFB-8C3E-8BE5AE6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81E5-FC48-4118-BE92-99FBDCE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A75-85E2-4364-96EB-722B195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4AC-EBEF-4DE8-9E0D-BB12BBE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FF8-0336-48FB-9D55-A782881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4C32-D71D-4DB8-8949-89380C8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981-D573-4A76-9668-918699CF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3FEE-0DFE-4786-88A6-C6F875F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C83-DDCE-41A3-9206-A74179B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D2BB-8A61-4C79-B037-B7F837D9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DB4-0239-452A-9CD5-724492D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7A8-19C2-4503-9DF2-59812C94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70F-8BC4-4D15-9123-D603EAC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B9-1861-4B54-9D5C-8E96B58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28E-0DC0-46F7-85A9-888EE7F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D21-E1FC-4E70-AD49-5128ABF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660-4933-42CB-B822-8D7532C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11A0-3B2C-4580-8E56-69CEC4AE11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DB30-FF6F-461D-9F60-A2325030B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ФИЗИЧЕСКОЙ КУЛЬТУ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А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5-06.06.2014 г.               г. Краснодар ст. Сормовская 1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Кубань»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7499160" cy="335268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М.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В. Пет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Ро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6-09T08:24:39Z</cp:lastPrinted>
  <dcterms:modified xsi:type="dcterms:W3CDTF">2014-06-09T08:27:59Z</dcterms:modified>
  <cp:revision>2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