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07A9-C4E6-4DF4-BC5A-15DEC954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80CF-CC9E-4380-A918-53009446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D07-4003-4C4E-AA96-B33ECB6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CBD-BE91-4E91-A758-57980A53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BE0-4365-4555-9B76-5BC7F297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642-F4E6-487E-92AD-AB85C496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D651-9C6C-4593-A80D-5B4C28C1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A8C3-9424-4A3F-A28D-28384B9F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FDEE-BE65-475E-8AB3-68FA5FB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D8C5-0D4A-4D76-B9F3-A7D809A3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6C3-ED82-4333-BFEE-4425DB7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690-A14E-43D5-8CE5-CE67A1BE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D42-3593-40FA-9B9C-4427E49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3B4-5CF3-40DE-92BA-A1E3BAA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A11-4B61-478E-9BBE-B6C07C0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60F8-4524-46B4-874B-C8B22DC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A7FE-B7E7-470C-A525-1F992A5F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05B3-7F3C-4C4E-A3B2-1F55424A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E3F5-B309-4339-8836-972C8641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6E-CE5F-4BAD-9FF0-E3AEAED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B9E-6348-4DC1-A628-94B91DFF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2CD-0244-4E78-AD80-034100D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34B-3155-43A6-82D4-76A22BC9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884-4B84-45B4-AA38-4851EC8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1F3-93A6-401D-B5BB-2F792BE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9C0-13F2-4BAE-A43E-AB822D8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4E1C-EFA7-45D2-B1EF-5E40474E75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F79-CEF6-4EE0-A118-DD44BF7B87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. Адлер ст. «Юность»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49244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й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чеслав Жар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ина Болдыр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оп Егиазаря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Горба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й Ж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5-30T08:53:17Z</cp:lastPrinted>
  <dcterms:modified xsi:type="dcterms:W3CDTF">2014-05-30T09:44:26Z</dcterms:modified>
  <cp:revision>4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