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C54C-3337-4D8F-B65A-741D33EE6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40C8-CF70-433D-94A4-28840B1BC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CFDB-2088-40C4-B3F4-9EAE51A8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B91-6859-4282-930B-3F29ACF0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B3A-405C-41DA-BD2B-FCA29BC9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BF7-E6FD-4E54-9A1A-F06062D5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F937-3BC2-441E-887D-DE9E2DF0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5AA6-BF6F-4C95-B6AD-C263DBFB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7664-8FB7-4E00-A1DB-9BD8475F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8DE2-C21B-4A63-A875-42BE5BDD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8E15-0020-4CF4-A4F5-1EEAC08E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254C-6775-4B4A-BC80-2D73D2BE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43DC-5BC3-4456-A74D-40AB5425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0A5B-3BCA-4E95-95F7-818B0055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8F9E-2CBE-4F70-95D5-97FDCE7E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1AF5-8BE2-4DD5-A5BB-7CEB39A1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E2DD-0784-4EC9-92C0-077861DD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50FD-7DA9-4303-A049-E99E01B2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00FB-F2EB-4462-98CB-7A6D410D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653-1D68-484A-97C5-E4625346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01F-6240-4691-99BC-BA813A09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AFCB-7ABD-4634-B0E4-B502C8E7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AAB2-A6C5-4F62-8879-470C2B0B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E73-26B5-4FCA-A180-1D64C822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E29-19E9-4A44-838B-35283740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3C1E-280A-4770-AB87-FB83A2DB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363A-D558-438B-81D4-958D58CFD8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9CB8-3D2F-457E-BCB8-8D92C011E1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4200" y="1285560"/>
            <a:ext cx="72741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МИНИСТЕРСТВО СПОРТА РОССИЙСКОЙ ФЕДЕРАЦИИ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 "ЦСП СБОРНЫХ КОМАНД РОССИИ"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П "ЮЖНЫЙ ФЕДЕРАЛЬНЫЙ ЦЕНТР СПОРТИВНОЙ ПОДГОТОВКИ" (ФГУП "ЮГ СПОРТ") 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мандный чемпионат России по легкой атле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9-30.05.2014 г.                    г. Сочи ст. ФГУП «ЮГ СПОРТ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. Адлер ст. «Юность»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75438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Командный чемпионат России по легкой атлетике</a:t>
            </a:r>
            <a:br>
              <a:rPr sz="1600"/>
            </a:br>
            <a:br>
              <a:rPr sz="16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29-30.05.2014 г.                    г. Сочи ст. ФГУП «ЮГ СПОРТ»</a:t>
            </a:r>
            <a:r>
              <a:rPr b="1" lang="ru-RU" sz="1200" spc="-1" strike="noStrike">
                <a:solidFill>
                  <a:srgbClr val="330066"/>
                </a:solidFill>
                <a:latin typeface="Times New Roman"/>
              </a:rPr>
              <a:t>  </a:t>
            </a:r>
            <a:br>
              <a:rPr sz="1200"/>
            </a:br>
            <a:r>
              <a:rPr b="1" lang="ru-RU" sz="1200" spc="-1" strike="noStrike">
                <a:solidFill>
                  <a:srgbClr val="330066"/>
                </a:solidFill>
                <a:latin typeface="Times New Roman"/>
              </a:rPr>
              <a:t>                                  </a:t>
            </a: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г. Адлер ст. «Юность»                                                                         </a:t>
            </a:r>
            <a:br>
              <a:rPr sz="1600"/>
            </a:br>
            <a:br>
              <a:rPr sz="16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11280" y="1557360"/>
          <a:ext cx="7377120" cy="4492440"/>
        </p:xfrm>
        <a:graphic>
          <a:graphicData uri="http://schemas.openxmlformats.org/drawingml/2006/table">
            <a:tbl>
              <a:tblPr/>
              <a:tblGrid>
                <a:gridCol w="2232000"/>
                <a:gridCol w="2152440"/>
                <a:gridCol w="1044720"/>
                <a:gridCol w="1947960"/>
              </a:tblGrid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ректор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орь Лото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рий Целебриц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р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талий Слеп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 -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гей Ко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ди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на Клоч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лг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ячеслав Жар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К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- 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ий менедж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иль П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ина Болдыр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 -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оп Егиазаря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гей Горба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вро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он Уй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кт-Петербу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дрей Жу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лентина Слеп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 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4-05-30T08:53:17Z</cp:lastPrinted>
  <dcterms:modified xsi:type="dcterms:W3CDTF">2014-05-30T09:44:26Z</dcterms:modified>
  <cp:revision>41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