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737-69A4-4D6C-A071-8FE9DCF5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B5E-625A-450F-9D61-DDF5776A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7C4-52D6-4175-97DB-9ACA611C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7CB-10BB-4802-8DFD-659D92B0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48D8-EDEB-4349-8C1A-6E408A81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131D-A077-4487-BD38-CD223284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0D94-C4CE-48D6-97D6-4691CCCF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B943-F6A3-40C1-BC38-84545C55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BF39-87AF-4959-9174-488235FB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2310-27FC-4B35-B353-3B95BC9E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4D87-7037-4A52-B7FB-74EBA7D3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248-B3FB-4417-9865-FFAB44C3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F28C-2A4E-41F3-8151-75B209B0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8C4F-855F-40F2-BFAC-52B12410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A129-6FBE-48FA-A474-E8DDAE82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B39C-3C5E-4437-86E8-75B1C273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DB36-2B17-4E1D-B675-F49917B0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1D7-99B7-448F-BC01-6DA8C62F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C59-E48F-4ACC-BF59-310C251D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8D7-D89E-4CE9-91E5-4C750486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645-5C2B-4C2D-94A7-F55C5083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D21-2420-41FB-8C8A-5B5A8D5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D21-3DB5-412C-A61D-46631744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2E3-D978-413D-97A6-180AC793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2294-3D9B-43DD-AF4E-7C602CC296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D266-D875-4798-8975-79B890E2DE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8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(мужчины и женщины) и первенство России (молодежь мужчины и женщины до 23 лет, юниоры и юниорки до 20 лет, юноши и девушки до 18 лет) (длинные мет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-23.02.2014 г.                                                                              г. Краснод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пионат России (мужчины и женщины) и первенство России (молодежь мужчины и женщины до 23 лет, юниоры и юниорки до 20 лет, юноши и девушки до 18 лет) (длинные метания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615080" cy="4118040"/>
        </p:xfrm>
        <a:graphic>
          <a:graphicData uri="http://schemas.openxmlformats.org/drawingml/2006/table">
            <a:tbl>
              <a:tblPr/>
              <a:tblGrid>
                <a:gridCol w="3565440"/>
                <a:gridCol w="1710000"/>
                <a:gridCol w="658800"/>
                <a:gridCol w="1680840"/>
              </a:tblGrid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В.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В.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Иск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Жу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м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 Ш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Н. Коптю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2-23T08:06:43Z</cp:lastPrinted>
  <dcterms:modified xsi:type="dcterms:W3CDTF">2014-02-23T08:19:18Z</dcterms:modified>
  <cp:revision>48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