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F7D-457A-4777-A2C5-A4132CB4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A31-4B3C-4EDC-B909-25688370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C58-929F-4A24-B275-BB79A845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E8F-1217-4E9E-AD19-542D0FE1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A2A7-F162-423B-A615-7910BEF3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DA63-4B73-470A-BA29-A2400CD7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F0EA-9765-445D-948C-F4CF219A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6BA1-E67C-4EDA-86B0-556F181F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25D3-85CD-41C7-ABCE-1327C2DF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3C16-4F1B-4494-ADBF-8F118190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A8A8-391D-4FC9-A8A1-12D1DC0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A56-370A-49E4-B3DB-7030D86A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746D-7F96-4F01-A2BD-4715D43D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7FF5-E1E8-4DA2-A09B-20219EBA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D319-0FD6-454C-B848-35853812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BBD3-35B7-4D1F-BEB9-B5994931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17A1-F618-4893-ABBD-3F95EDBB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050-9AD6-495E-9C93-5385EC1A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A95-8F95-425E-980B-B5E65C4B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C10-6839-4AA0-BC01-D0EC2916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F50-9B4D-48A6-8C41-F3414659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D29-363F-445B-8089-1EB243D4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417-9090-442D-86CD-DB9C8D5B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EF0-8920-4794-B79B-B63470A8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07DF-9E9A-45F1-89F4-51F373906C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F5C3-1B8C-4E24-93D8-31BEBA7ADB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8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(мужчины и женщины) и первенство России (молодежь мужчины и женщины до 23 лет, юниоры и юниорки до 20 лет, юноши и девушки до 18 лет) (длинные мет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-23.02.2014 г.                                                                              г. Краснод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пионат России (мужчины и женщины) и первенство России (молодежь мужчины и женщины до 23 лет, юниоры и юниорки до 20 лет, юноши и девушки до 18 лет) (длинные метания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615080" cy="4118040"/>
        </p:xfrm>
        <a:graphic>
          <a:graphicData uri="http://schemas.openxmlformats.org/drawingml/2006/table">
            <a:tbl>
              <a:tblPr/>
              <a:tblGrid>
                <a:gridCol w="3565440"/>
                <a:gridCol w="1710000"/>
                <a:gridCol w="658800"/>
                <a:gridCol w="1680840"/>
              </a:tblGrid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В.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В.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Иск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Жу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м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 Ш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Н. Коптю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2-23T08:06:43Z</cp:lastPrinted>
  <dcterms:modified xsi:type="dcterms:W3CDTF">2014-02-23T08:19:18Z</dcterms:modified>
  <cp:revision>48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