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C11-D1B7-4F09-AD4B-D2C8FEE08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4A9-74A4-4ECF-8F7B-4552B1F2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004-3F2F-4BFF-AC7B-7EBB933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235-ADBE-425F-B0E8-7B00B995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338-6526-4E7F-A85B-41FEF8A5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321-2E95-42AD-984B-D46F896D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A2D7-572E-433D-978B-00EECA9A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040-6917-414A-8AD6-3FA15E3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D749-E95E-48C6-A0BD-4D41DAB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75E-9923-4827-88F0-F0216021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0854-CDEF-4F5D-B2E0-05CB3664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6EE4-BD23-496B-A27B-2FF77B2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8D91-4336-4AE9-9F68-B2168A2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47B-073F-49CE-B083-C5DC8A1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CB2-BF3B-4E5F-A1AA-31BD470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2B36-B664-41C7-8BEB-71851582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EB0C-5EA9-4985-A791-2012658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9780-58EA-4E22-9B93-18C0F45C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8E4-9E02-470C-89D2-FC5830BA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D5A-A564-4B99-9DBD-96E7DFAB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1AB-81A2-441F-A564-3ACA4AA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4F5-14D3-4990-A4E9-01848CC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457-B8AB-491C-B307-D424182C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710-06BE-4F63-B525-2964F3C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8B-F949-45C8-875B-C71A735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14A-7BD5-4040-833E-06C01B7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31D-D839-42F0-AA5C-98E7818AB3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8690-C7A4-4BEA-BE45-6D4516A452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7215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ИСТЕРСТВО ФИЗИЧЕСКОЙ КУЛЬТУРЫ И СПОРТА КРАСНОДАРСКОГО КРАЯ</a:t>
            </a:r>
            <a:r>
              <a:rPr b="1" lang="ru-RU" sz="1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ЕДЕРАЦИЯ ЛЕГКОЙ АТЛЕТИКИ КРАСНОДАРСКОГО КРАЯ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Чемпионат и первенство ЮФО, С-КФО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-19.01.2014 г.                                                                               г. Краснодар л/а манеж КГУФК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Чемпионат и первенство ЮФО, С-КФО по легкой атлетике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18-19.01.2014 г.                                                                  г. Краснодар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719360"/>
          <a:ext cx="7499520" cy="4448160"/>
        </p:xfrm>
        <a:graphic>
          <a:graphicData uri="http://schemas.openxmlformats.org/drawingml/2006/table">
            <a:tbl>
              <a:tblPr/>
              <a:tblGrid>
                <a:gridCol w="3471840"/>
                <a:gridCol w="1611360"/>
                <a:gridCol w="746280"/>
                <a:gridCol w="16700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Никит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Смо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Ш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1-21T07:05:43Z</cp:lastPrinted>
  <dcterms:modified xsi:type="dcterms:W3CDTF">2014-01-21T08:13:51Z</dcterms:modified>
  <cp:revision>25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