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D2C5-78CC-492D-9ABF-DF3C48D85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377-B025-4307-9F1E-1EF4AC07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F45-41BB-41CD-93C3-FF3AA608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BF-66C6-4577-BA43-92F9C8C5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629-6EFF-4DB2-B43D-EE96087F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590-516C-4A42-A123-3D27C301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CB73-65D3-49F7-9DC6-4965BB34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6ED-C975-497C-8366-811EA29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68B-58EF-4577-BED9-25FA5A1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A9B9-4430-4C6B-88D7-C97BD2D5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555-9355-4298-A841-595A620A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1DD-BBF2-4154-8F6B-E38CB6E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1908-7ADC-42A0-808F-51C4D37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3D8-F0C2-4000-83EF-F842868F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5CE-2AFD-40C4-B3CF-999878D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C00D-6DDF-43BF-8CA1-05B7739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F66-6D13-4DAF-89E8-E2E0979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4607-BB3D-4464-BF98-57F4F75F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4B8E-5652-484F-87EE-F05BCB58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7F1-3BC6-42E7-8C2C-1A15DD0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6F9-91F1-4BCE-A353-86A5C0D5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799-E7D9-49F8-8EBE-68F38A3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6EA-1346-4552-8A24-812A448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618-1F64-4D4C-A507-34FC2F8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56F-7D10-4666-BE1D-8A90296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DF4-7CDF-4E49-9EEC-B39A043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FF25-4A75-47A1-B543-5645128F58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F36-B344-49BA-81F3-5CD1EB8FBD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7215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ЕДЕРАЦИЯ ЛЕГКОЙ АТЛЕТИКИ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емпионат и первенство ЮФО, С-КФО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-19.01.2014 г.                                                                               г. Краснодар л/а манеж КГУФК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Чемпионат и первенство ЮФО, С-КФО по легкой атлетике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18-19.01.2014 г.                                                                  г. Краснодар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719360"/>
          <a:ext cx="7499520" cy="4448160"/>
        </p:xfrm>
        <a:graphic>
          <a:graphicData uri="http://schemas.openxmlformats.org/drawingml/2006/table">
            <a:tbl>
              <a:tblPr/>
              <a:tblGrid>
                <a:gridCol w="3471840"/>
                <a:gridCol w="1611360"/>
                <a:gridCol w="746280"/>
                <a:gridCol w="16700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Никит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Смо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Ш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1-21T07:05:43Z</cp:lastPrinted>
  <dcterms:modified xsi:type="dcterms:W3CDTF">2014-01-21T08:13:51Z</dcterms:modified>
  <cp:revision>2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